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7970-8D6F-4A4F-9BCB-2506DD10F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0000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118E-896E-499D-8412-F4B62D3AA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8268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0C18-05A6-4416-9336-A2E77D047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2800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564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0000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2800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564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83BE-A802-4F5F-9BBB-A79153D05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523DB-D063-4FEA-83C1-51D08E907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9E763-EE57-4840-A892-AADD1727D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CA47D-EF01-4BB0-82BA-AA05B8C9C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8D041-569D-4EC1-AE87-4D31A7165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5B992-3A29-48A6-8F85-97C3767E0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E09F7-F898-4AD0-9319-4DE0BD519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897A6-30E9-47C7-BF7E-8C7CE9989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9063-6C85-43ED-B77D-3064396A4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88268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F3460-0643-47A2-964E-975150692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74FC7-4D62-438B-BD8C-FB0B2C71B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0000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90B0C-6E9E-4713-99B6-B09B9BDC2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88268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E24A6-87D6-466C-981A-28635F423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2800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5564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0000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2800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5564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85ABA-0D6D-42BE-9D80-1EB18D85E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223B-B4E5-4472-A75F-17AC7C1BE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E614-014D-4E4C-8AFF-FD09EFEBC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D5D3-CAB0-45C7-AED2-7B122AA98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FF2E-99E5-402B-BBED-D148B9AF0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93D7-296D-4CBB-A4B3-7C892B286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8268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C06D-6D47-461C-984F-078086E12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A622-1E48-4F60-9C45-0131739D2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609480" cy="48769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119A8-23DD-4288-AC66-BCBA4054982F}" type="slidenum">
              <a:rPr b="0" lang="pl-P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 txBox="1"/>
          <p:nvPr/>
        </p:nvSpPr>
        <p:spPr>
          <a:xfrm rot="5400000">
            <a:off x="-1981080" y="2276280"/>
            <a:ext cx="4608360" cy="287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e1"/>
                </a:solidFill>
                <a:latin typeface="Calibri"/>
              </a:rPr>
              <a:t>FIGURY GEOMETRYCZN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e1"/>
              </a:solidFill>
              <a:latin typeface="Calibri"/>
              <a:ea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5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47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1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A6F19-9F1D-409D-A25C-B57FC2942937}" type="slidenum">
              <a:rPr b="0" lang="pl-P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.wmf"/><Relationship Id="rId1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.wmf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285920" y="2619360"/>
            <a:ext cx="7129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Verdana"/>
              </a:rPr>
              <a:t>KĄTY. </a:t>
            </a:r>
            <a:br>
              <a:rPr sz="4000"/>
            </a:br>
            <a:r>
              <a:rPr b="1" lang="en-US" sz="4000" spc="-1" strike="noStrike">
                <a:solidFill>
                  <a:srgbClr val="990033"/>
                </a:solidFill>
                <a:latin typeface="Verdana"/>
              </a:rPr>
              <a:t>RODZAJE KĄTÓ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0" t="0" r="6035" b="97"/>
          <a:stretch/>
        </p:blipFill>
        <p:spPr>
          <a:xfrm>
            <a:off x="1197000" y="1763640"/>
            <a:ext cx="4770360" cy="33307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927000" y="0"/>
            <a:ext cx="77724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KĄ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46280" y="86364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1197000" y="1763640"/>
            <a:ext cx="4762440" cy="3240000"/>
            <a:chOff x="1197000" y="1763640"/>
            <a:chExt cx="4762440" cy="3240000"/>
          </a:xfrm>
        </p:grpSpPr>
        <p:grpSp>
          <p:nvGrpSpPr>
            <p:cNvPr id="99" name=""/>
            <p:cNvGrpSpPr/>
            <p:nvPr/>
          </p:nvGrpSpPr>
          <p:grpSpPr>
            <a:xfrm>
              <a:off x="1908360" y="2394000"/>
              <a:ext cx="3646440" cy="1620720"/>
              <a:chOff x="1908360" y="2394000"/>
              <a:chExt cx="3646440" cy="1620720"/>
            </a:xfrm>
          </p:grpSpPr>
          <p:sp>
            <p:nvSpPr>
              <p:cNvPr id="100" name=""/>
              <p:cNvSpPr/>
              <p:nvPr/>
            </p:nvSpPr>
            <p:spPr>
              <a:xfrm>
                <a:off x="2043000" y="3068640"/>
                <a:ext cx="71640" cy="7128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" name=""/>
              <p:cNvGrpSpPr/>
              <p:nvPr/>
            </p:nvGrpSpPr>
            <p:grpSpPr>
              <a:xfrm>
                <a:off x="2089080" y="2394000"/>
                <a:ext cx="3465720" cy="1620720"/>
                <a:chOff x="2089080" y="2394000"/>
                <a:chExt cx="3465720" cy="1620720"/>
              </a:xfrm>
            </p:grpSpPr>
            <p:sp>
              <p:nvSpPr>
                <p:cNvPr id="102" name=""/>
                <p:cNvSpPr/>
                <p:nvPr/>
              </p:nvSpPr>
              <p:spPr>
                <a:xfrm>
                  <a:off x="2089080" y="3114720"/>
                  <a:ext cx="3465720" cy="900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 flipV="1">
                  <a:off x="2089080" y="2394000"/>
                  <a:ext cx="3330720" cy="7207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" name=""/>
              <p:cNvSpPr/>
              <p:nvPr/>
            </p:nvSpPr>
            <p:spPr>
              <a:xfrm>
                <a:off x="1908360" y="2708280"/>
                <a:ext cx="269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" name=""/>
            <p:cNvSpPr/>
            <p:nvPr/>
          </p:nvSpPr>
          <p:spPr>
            <a:xfrm>
              <a:off x="1197000" y="1763640"/>
              <a:ext cx="4762440" cy="3240000"/>
            </a:xfrm>
            <a:custGeom>
              <a:avLst/>
              <a:gdLst/>
              <a:ahLst/>
              <a:rect l="l" t="t" r="r" b="b"/>
              <a:pathLst>
                <a:path w="3015" h="2071">
                  <a:moveTo>
                    <a:pt x="345" y="1116"/>
                  </a:moveTo>
                  <a:cubicBezTo>
                    <a:pt x="297" y="1148"/>
                    <a:pt x="297" y="1195"/>
                    <a:pt x="273" y="1244"/>
                  </a:cubicBezTo>
                  <a:cubicBezTo>
                    <a:pt x="262" y="1308"/>
                    <a:pt x="242" y="1397"/>
                    <a:pt x="281" y="1452"/>
                  </a:cubicBezTo>
                  <a:cubicBezTo>
                    <a:pt x="337" y="1531"/>
                    <a:pt x="526" y="1526"/>
                    <a:pt x="609" y="1532"/>
                  </a:cubicBezTo>
                  <a:cubicBezTo>
                    <a:pt x="678" y="1555"/>
                    <a:pt x="691" y="1535"/>
                    <a:pt x="737" y="1596"/>
                  </a:cubicBezTo>
                  <a:cubicBezTo>
                    <a:pt x="769" y="1723"/>
                    <a:pt x="688" y="1867"/>
                    <a:pt x="785" y="1964"/>
                  </a:cubicBezTo>
                  <a:cubicBezTo>
                    <a:pt x="801" y="2011"/>
                    <a:pt x="803" y="2001"/>
                    <a:pt x="841" y="2028"/>
                  </a:cubicBezTo>
                  <a:cubicBezTo>
                    <a:pt x="893" y="2065"/>
                    <a:pt x="838" y="2043"/>
                    <a:pt x="889" y="2060"/>
                  </a:cubicBezTo>
                  <a:cubicBezTo>
                    <a:pt x="998" y="2057"/>
                    <a:pt x="1111" y="2071"/>
                    <a:pt x="1217" y="2044"/>
                  </a:cubicBezTo>
                  <a:cubicBezTo>
                    <a:pt x="1273" y="2030"/>
                    <a:pt x="1323" y="1988"/>
                    <a:pt x="1353" y="1940"/>
                  </a:cubicBezTo>
                  <a:cubicBezTo>
                    <a:pt x="1359" y="1930"/>
                    <a:pt x="1361" y="1916"/>
                    <a:pt x="1369" y="1908"/>
                  </a:cubicBezTo>
                  <a:cubicBezTo>
                    <a:pt x="1405" y="1872"/>
                    <a:pt x="1436" y="1875"/>
                    <a:pt x="1481" y="1860"/>
                  </a:cubicBezTo>
                  <a:cubicBezTo>
                    <a:pt x="1540" y="1863"/>
                    <a:pt x="1599" y="1861"/>
                    <a:pt x="1657" y="1868"/>
                  </a:cubicBezTo>
                  <a:cubicBezTo>
                    <a:pt x="1692" y="1872"/>
                    <a:pt x="1687" y="1892"/>
                    <a:pt x="1713" y="1908"/>
                  </a:cubicBezTo>
                  <a:cubicBezTo>
                    <a:pt x="1733" y="1921"/>
                    <a:pt x="1760" y="1923"/>
                    <a:pt x="1777" y="1940"/>
                  </a:cubicBezTo>
                  <a:cubicBezTo>
                    <a:pt x="1785" y="1948"/>
                    <a:pt x="1792" y="1957"/>
                    <a:pt x="1801" y="1964"/>
                  </a:cubicBezTo>
                  <a:cubicBezTo>
                    <a:pt x="1839" y="1991"/>
                    <a:pt x="1884" y="1991"/>
                    <a:pt x="1929" y="1996"/>
                  </a:cubicBezTo>
                  <a:cubicBezTo>
                    <a:pt x="2036" y="2032"/>
                    <a:pt x="2155" y="2004"/>
                    <a:pt x="2265" y="1988"/>
                  </a:cubicBezTo>
                  <a:cubicBezTo>
                    <a:pt x="2298" y="1966"/>
                    <a:pt x="2337" y="1969"/>
                    <a:pt x="2369" y="1948"/>
                  </a:cubicBezTo>
                  <a:cubicBezTo>
                    <a:pt x="2404" y="1924"/>
                    <a:pt x="2430" y="1892"/>
                    <a:pt x="2465" y="1868"/>
                  </a:cubicBezTo>
                  <a:cubicBezTo>
                    <a:pt x="2476" y="1834"/>
                    <a:pt x="2488" y="1813"/>
                    <a:pt x="2513" y="1788"/>
                  </a:cubicBezTo>
                  <a:cubicBezTo>
                    <a:pt x="2527" y="1733"/>
                    <a:pt x="2516" y="1766"/>
                    <a:pt x="2553" y="1692"/>
                  </a:cubicBezTo>
                  <a:lnTo>
                    <a:pt x="2553" y="1692"/>
                  </a:lnTo>
                  <a:cubicBezTo>
                    <a:pt x="2556" y="1684"/>
                    <a:pt x="2555" y="1674"/>
                    <a:pt x="2561" y="1668"/>
                  </a:cubicBezTo>
                  <a:cubicBezTo>
                    <a:pt x="2597" y="1632"/>
                    <a:pt x="2649" y="1624"/>
                    <a:pt x="2689" y="1596"/>
                  </a:cubicBezTo>
                  <a:cubicBezTo>
                    <a:pt x="2714" y="1578"/>
                    <a:pt x="2745" y="1524"/>
                    <a:pt x="2745" y="1524"/>
                  </a:cubicBezTo>
                  <a:cubicBezTo>
                    <a:pt x="2759" y="1467"/>
                    <a:pt x="2740" y="1419"/>
                    <a:pt x="2753" y="1356"/>
                  </a:cubicBezTo>
                  <a:cubicBezTo>
                    <a:pt x="2761" y="1314"/>
                    <a:pt x="2821" y="1312"/>
                    <a:pt x="2849" y="1292"/>
                  </a:cubicBezTo>
                  <a:cubicBezTo>
                    <a:pt x="2858" y="1285"/>
                    <a:pt x="2864" y="1275"/>
                    <a:pt x="2873" y="1268"/>
                  </a:cubicBezTo>
                  <a:cubicBezTo>
                    <a:pt x="2880" y="1262"/>
                    <a:pt x="2889" y="1257"/>
                    <a:pt x="2897" y="1252"/>
                  </a:cubicBezTo>
                  <a:cubicBezTo>
                    <a:pt x="2910" y="1200"/>
                    <a:pt x="2916" y="1175"/>
                    <a:pt x="2945" y="1132"/>
                  </a:cubicBezTo>
                  <a:cubicBezTo>
                    <a:pt x="2952" y="1064"/>
                    <a:pt x="2964" y="999"/>
                    <a:pt x="2977" y="932"/>
                  </a:cubicBezTo>
                  <a:cubicBezTo>
                    <a:pt x="2974" y="832"/>
                    <a:pt x="3015" y="490"/>
                    <a:pt x="2833" y="444"/>
                  </a:cubicBezTo>
                  <a:cubicBezTo>
                    <a:pt x="2785" y="412"/>
                    <a:pt x="2728" y="410"/>
                    <a:pt x="2673" y="396"/>
                  </a:cubicBezTo>
                  <a:cubicBezTo>
                    <a:pt x="2591" y="342"/>
                    <a:pt x="2363" y="358"/>
                    <a:pt x="2313" y="356"/>
                  </a:cubicBezTo>
                  <a:cubicBezTo>
                    <a:pt x="2234" y="336"/>
                    <a:pt x="2268" y="351"/>
                    <a:pt x="2209" y="316"/>
                  </a:cubicBezTo>
                  <a:cubicBezTo>
                    <a:pt x="2193" y="268"/>
                    <a:pt x="2185" y="220"/>
                    <a:pt x="2169" y="172"/>
                  </a:cubicBezTo>
                  <a:cubicBezTo>
                    <a:pt x="2159" y="143"/>
                    <a:pt x="2097" y="116"/>
                    <a:pt x="2097" y="116"/>
                  </a:cubicBezTo>
                  <a:cubicBezTo>
                    <a:pt x="1990" y="122"/>
                    <a:pt x="1890" y="138"/>
                    <a:pt x="1785" y="148"/>
                  </a:cubicBezTo>
                  <a:cubicBezTo>
                    <a:pt x="1708" y="145"/>
                    <a:pt x="1630" y="145"/>
                    <a:pt x="1553" y="140"/>
                  </a:cubicBezTo>
                  <a:cubicBezTo>
                    <a:pt x="1521" y="138"/>
                    <a:pt x="1500" y="106"/>
                    <a:pt x="1473" y="92"/>
                  </a:cubicBezTo>
                  <a:cubicBezTo>
                    <a:pt x="1403" y="57"/>
                    <a:pt x="1333" y="44"/>
                    <a:pt x="1257" y="36"/>
                  </a:cubicBezTo>
                  <a:cubicBezTo>
                    <a:pt x="1227" y="29"/>
                    <a:pt x="1199" y="19"/>
                    <a:pt x="1169" y="12"/>
                  </a:cubicBezTo>
                  <a:cubicBezTo>
                    <a:pt x="1118" y="15"/>
                    <a:pt x="1059" y="0"/>
                    <a:pt x="1017" y="28"/>
                  </a:cubicBezTo>
                  <a:cubicBezTo>
                    <a:pt x="951" y="72"/>
                    <a:pt x="1061" y="37"/>
                    <a:pt x="969" y="60"/>
                  </a:cubicBezTo>
                  <a:cubicBezTo>
                    <a:pt x="891" y="112"/>
                    <a:pt x="1010" y="29"/>
                    <a:pt x="921" y="108"/>
                  </a:cubicBezTo>
                  <a:cubicBezTo>
                    <a:pt x="907" y="121"/>
                    <a:pt x="873" y="140"/>
                    <a:pt x="873" y="140"/>
                  </a:cubicBezTo>
                  <a:cubicBezTo>
                    <a:pt x="857" y="173"/>
                    <a:pt x="843" y="194"/>
                    <a:pt x="817" y="220"/>
                  </a:cubicBezTo>
                  <a:cubicBezTo>
                    <a:pt x="796" y="282"/>
                    <a:pt x="763" y="338"/>
                    <a:pt x="737" y="396"/>
                  </a:cubicBezTo>
                  <a:cubicBezTo>
                    <a:pt x="721" y="433"/>
                    <a:pt x="718" y="460"/>
                    <a:pt x="697" y="492"/>
                  </a:cubicBezTo>
                  <a:cubicBezTo>
                    <a:pt x="669" y="603"/>
                    <a:pt x="630" y="550"/>
                    <a:pt x="473" y="556"/>
                  </a:cubicBezTo>
                  <a:cubicBezTo>
                    <a:pt x="428" y="567"/>
                    <a:pt x="370" y="567"/>
                    <a:pt x="329" y="588"/>
                  </a:cubicBezTo>
                  <a:cubicBezTo>
                    <a:pt x="279" y="613"/>
                    <a:pt x="224" y="630"/>
                    <a:pt x="169" y="644"/>
                  </a:cubicBezTo>
                  <a:cubicBezTo>
                    <a:pt x="142" y="662"/>
                    <a:pt x="98" y="679"/>
                    <a:pt x="73" y="700"/>
                  </a:cubicBezTo>
                  <a:cubicBezTo>
                    <a:pt x="11" y="751"/>
                    <a:pt x="85" y="700"/>
                    <a:pt x="25" y="740"/>
                  </a:cubicBezTo>
                  <a:cubicBezTo>
                    <a:pt x="0" y="815"/>
                    <a:pt x="12" y="769"/>
                    <a:pt x="25" y="932"/>
                  </a:cubicBezTo>
                  <a:cubicBezTo>
                    <a:pt x="36" y="1068"/>
                    <a:pt x="196" y="1055"/>
                    <a:pt x="289" y="1060"/>
                  </a:cubicBezTo>
                  <a:cubicBezTo>
                    <a:pt x="347" y="1079"/>
                    <a:pt x="333" y="1060"/>
                    <a:pt x="345" y="1108"/>
                  </a:cubicBezTo>
                  <a:cubicBezTo>
                    <a:pt x="342" y="1116"/>
                    <a:pt x="343" y="1126"/>
                    <a:pt x="337" y="1132"/>
                  </a:cubicBezTo>
                  <a:cubicBezTo>
                    <a:pt x="331" y="1138"/>
                    <a:pt x="309" y="1148"/>
                    <a:pt x="313" y="1140"/>
                  </a:cubicBezTo>
                  <a:cubicBezTo>
                    <a:pt x="319" y="1128"/>
                    <a:pt x="334" y="1124"/>
                    <a:pt x="345" y="1116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2097000" y="2394000"/>
            <a:ext cx="3375000" cy="1608120"/>
            <a:chOff x="2097000" y="2394000"/>
            <a:chExt cx="3375000" cy="1608120"/>
          </a:xfrm>
        </p:grpSpPr>
        <p:sp>
          <p:nvSpPr>
            <p:cNvPr id="107" name=""/>
            <p:cNvSpPr/>
            <p:nvPr/>
          </p:nvSpPr>
          <p:spPr>
            <a:xfrm flipV="1">
              <a:off x="2097000" y="2394000"/>
              <a:ext cx="3330360" cy="720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097000" y="3112920"/>
              <a:ext cx="3375000" cy="88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1511280" y="5364000"/>
            <a:ext cx="688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wie półproste o wspólnym początku w punkcie A podzieliły nam płaszczyznę na dwie części. Punkty należące do jednej części wraz z punktami należącymi do półprostych tworzą figurę zwaną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kąte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9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9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83664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BUDOWA KĄ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46280" y="81900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411280" y="3392640"/>
            <a:ext cx="7164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276640" y="3429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457360" y="2393640"/>
            <a:ext cx="4409640" cy="2282760"/>
            <a:chOff x="2457360" y="2393640"/>
            <a:chExt cx="4409640" cy="2282760"/>
          </a:xfrm>
        </p:grpSpPr>
        <p:sp>
          <p:nvSpPr>
            <p:cNvPr id="115" name=""/>
            <p:cNvSpPr/>
            <p:nvPr/>
          </p:nvSpPr>
          <p:spPr>
            <a:xfrm flipV="1">
              <a:off x="2457360" y="2393640"/>
              <a:ext cx="4351680" cy="1022760"/>
            </a:xfrm>
            <a:prstGeom prst="line">
              <a:avLst/>
            </a:prstGeom>
            <a:ln w="158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457360" y="3414960"/>
              <a:ext cx="4409640" cy="1261440"/>
            </a:xfrm>
            <a:prstGeom prst="line">
              <a:avLst/>
            </a:prstGeom>
            <a:ln w="158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1646280" y="2394000"/>
            <a:ext cx="676080" cy="9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4122720" y="4103640"/>
            <a:ext cx="493560" cy="94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97360" y="1898640"/>
            <a:ext cx="674640" cy="9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041640" y="1403280"/>
            <a:ext cx="188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mię ką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132000" y="5049720"/>
            <a:ext cx="188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mię ką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57360" y="1673280"/>
            <a:ext cx="18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erzchołek ką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9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9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9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9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9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9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9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OZNACZENIA KĄ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6280" y="86364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106640" y="1042920"/>
            <a:ext cx="436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a) za pomocą łukó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106640" y="2394000"/>
            <a:ext cx="441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b) za pomocą łuków i trzech punktó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106640" y="4734000"/>
            <a:ext cx="585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c) za pomocą łuku i litery greckiego alfabet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601640" y="1476360"/>
            <a:ext cx="2341800" cy="738360"/>
            <a:chOff x="1601640" y="1476360"/>
            <a:chExt cx="2341800" cy="738360"/>
          </a:xfrm>
        </p:grpSpPr>
        <p:grpSp>
          <p:nvGrpSpPr>
            <p:cNvPr id="129" name=""/>
            <p:cNvGrpSpPr/>
            <p:nvPr/>
          </p:nvGrpSpPr>
          <p:grpSpPr>
            <a:xfrm>
              <a:off x="1873080" y="1493640"/>
              <a:ext cx="2070360" cy="721080"/>
              <a:chOff x="1873080" y="1493640"/>
              <a:chExt cx="2070360" cy="721080"/>
            </a:xfrm>
          </p:grpSpPr>
          <p:sp>
            <p:nvSpPr>
              <p:cNvPr id="130" name=""/>
              <p:cNvSpPr/>
              <p:nvPr/>
            </p:nvSpPr>
            <p:spPr>
              <a:xfrm flipV="1">
                <a:off x="1873080" y="1493640"/>
                <a:ext cx="1845000" cy="36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1873080" y="1854360"/>
                <a:ext cx="2070360" cy="36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>
              <a:off x="1601640" y="1719360"/>
              <a:ext cx="31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rot="3196800">
              <a:off x="2304720" y="1620360"/>
              <a:ext cx="539280" cy="35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5692680" y="1440000"/>
            <a:ext cx="1365480" cy="720360"/>
            <a:chOff x="5692680" y="1440000"/>
            <a:chExt cx="1365480" cy="720360"/>
          </a:xfrm>
        </p:grpSpPr>
        <p:sp>
          <p:nvSpPr>
            <p:cNvPr id="135" name=""/>
            <p:cNvSpPr/>
            <p:nvPr/>
          </p:nvSpPr>
          <p:spPr>
            <a:xfrm flipV="1">
              <a:off x="5692680" y="1440000"/>
              <a:ext cx="1329120" cy="34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692680" y="1784880"/>
              <a:ext cx="1365480" cy="37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5381640" y="1538280"/>
            <a:ext cx="26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 rot="11018400">
            <a:off x="5246640" y="1584360"/>
            <a:ext cx="695520" cy="282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140" y="13919"/>
                </a:moveTo>
                <a:arcTo wR="10800" hR="10800" stAng="1007062" swAng="18699984"/>
                <a:lnTo>
                  <a:pt x="10800" y="10800"/>
                </a:lnTo>
                <a:close/>
              </a:path>
              <a:path fill="none" w="21600" h="21600">
                <a:moveTo>
                  <a:pt x="21140" y="13919"/>
                </a:moveTo>
                <a:arcTo wR="10800" hR="10800" stAng="1007062" swAng="18699984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546280" y="2889360"/>
            <a:ext cx="31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871640" y="3071880"/>
            <a:ext cx="1906560" cy="712800"/>
            <a:chOff x="1871640" y="3071880"/>
            <a:chExt cx="1906560" cy="712800"/>
          </a:xfrm>
        </p:grpSpPr>
        <p:sp>
          <p:nvSpPr>
            <p:cNvPr id="141" name=""/>
            <p:cNvSpPr/>
            <p:nvPr/>
          </p:nvSpPr>
          <p:spPr>
            <a:xfrm flipV="1">
              <a:off x="1871640" y="3071880"/>
              <a:ext cx="1560240" cy="43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871640" y="3504600"/>
              <a:ext cx="1906560" cy="28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1663560" y="3429000"/>
            <a:ext cx="24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rot="3196800">
            <a:off x="2068920" y="3320280"/>
            <a:ext cx="303840" cy="276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703600" y="3632040"/>
            <a:ext cx="3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5602320" y="2959200"/>
            <a:ext cx="1625400" cy="825480"/>
            <a:chOff x="5602320" y="2959200"/>
            <a:chExt cx="1625400" cy="825480"/>
          </a:xfrm>
        </p:grpSpPr>
        <p:sp>
          <p:nvSpPr>
            <p:cNvPr id="147" name=""/>
            <p:cNvSpPr/>
            <p:nvPr/>
          </p:nvSpPr>
          <p:spPr>
            <a:xfrm flipV="1">
              <a:off x="5602320" y="2959200"/>
              <a:ext cx="1625400" cy="344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602320" y="3303360"/>
              <a:ext cx="1144080" cy="48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5380200" y="3164040"/>
            <a:ext cx="26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 rot="11018400">
            <a:off x="5158080" y="3091320"/>
            <a:ext cx="734400" cy="383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140" y="13919"/>
                </a:moveTo>
                <a:arcTo wR="10800" hR="10800" stAng="1007062" swAng="18699984"/>
                <a:lnTo>
                  <a:pt x="10800" y="10800"/>
                </a:lnTo>
                <a:close/>
              </a:path>
              <a:path fill="none" w="21600" h="21600">
                <a:moveTo>
                  <a:pt x="21140" y="13919"/>
                </a:moveTo>
                <a:arcTo wR="10800" hR="10800" stAng="1007062" swAng="18699984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102360" y="2798640"/>
            <a:ext cx="36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058080" y="351936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5730840" y="5124960"/>
            <a:ext cx="1313640" cy="1119240"/>
            <a:chOff x="5730840" y="5124960"/>
            <a:chExt cx="1313640" cy="1119240"/>
          </a:xfrm>
        </p:grpSpPr>
        <p:grpSp>
          <p:nvGrpSpPr>
            <p:cNvPr id="154" name=""/>
            <p:cNvGrpSpPr/>
            <p:nvPr/>
          </p:nvGrpSpPr>
          <p:grpSpPr>
            <a:xfrm>
              <a:off x="5730840" y="5124960"/>
              <a:ext cx="1313640" cy="1119240"/>
              <a:chOff x="5730840" y="5124960"/>
              <a:chExt cx="1313640" cy="1119240"/>
            </a:xfrm>
          </p:grpSpPr>
          <p:grpSp>
            <p:nvGrpSpPr>
              <p:cNvPr id="155" name=""/>
              <p:cNvGrpSpPr/>
              <p:nvPr/>
            </p:nvGrpSpPr>
            <p:grpSpPr>
              <a:xfrm>
                <a:off x="5730840" y="5124960"/>
                <a:ext cx="1313640" cy="820440"/>
                <a:chOff x="5730840" y="5124960"/>
                <a:chExt cx="1313640" cy="820440"/>
              </a:xfrm>
            </p:grpSpPr>
            <p:sp>
              <p:nvSpPr>
                <p:cNvPr id="156" name=""/>
                <p:cNvSpPr/>
                <p:nvPr/>
              </p:nvSpPr>
              <p:spPr>
                <a:xfrm flipH="1" flipV="1">
                  <a:off x="5730840" y="5917680"/>
                  <a:ext cx="1313640" cy="27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 flipH="1" flipV="1">
                  <a:off x="5805720" y="5124960"/>
                  <a:ext cx="1238760" cy="820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8" name=""/>
              <p:cNvSpPr/>
              <p:nvPr/>
            </p:nvSpPr>
            <p:spPr>
              <a:xfrm rot="15266400">
                <a:off x="6305040" y="5710680"/>
                <a:ext cx="611640" cy="376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1162" y="6"/>
                    </a:moveTo>
                    <a:arcTo wR="10800" hR="10800" stAng="-5284849" swAng="528484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1162" y="6"/>
                    </a:moveTo>
                    <a:arcTo wR="10800" hR="10800" stAng="-5284849" swAng="5284849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6417000" y="5589360"/>
              <a:ext cx="37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1652040" y="5094360"/>
            <a:ext cx="1884600" cy="882000"/>
            <a:chOff x="1652040" y="5094360"/>
            <a:chExt cx="1884600" cy="882000"/>
          </a:xfrm>
        </p:grpSpPr>
        <p:grpSp>
          <p:nvGrpSpPr>
            <p:cNvPr id="161" name=""/>
            <p:cNvGrpSpPr/>
            <p:nvPr/>
          </p:nvGrpSpPr>
          <p:grpSpPr>
            <a:xfrm>
              <a:off x="1932480" y="5094360"/>
              <a:ext cx="1604160" cy="771480"/>
              <a:chOff x="1932480" y="5094360"/>
              <a:chExt cx="1604160" cy="771480"/>
            </a:xfrm>
          </p:grpSpPr>
          <p:sp>
            <p:nvSpPr>
              <p:cNvPr id="162" name=""/>
              <p:cNvSpPr/>
              <p:nvPr/>
            </p:nvSpPr>
            <p:spPr>
              <a:xfrm flipV="1">
                <a:off x="1932480" y="5094360"/>
                <a:ext cx="1403280" cy="637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1932480" y="5732280"/>
                <a:ext cx="1604160" cy="133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 flipH="1" rot="9844200">
              <a:off x="1691640" y="5527440"/>
              <a:ext cx="592200" cy="374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140" y="13919"/>
                  </a:moveTo>
                  <a:arcTo wR="10800" hR="10800" stAng="1007062" swAng="18699984"/>
                  <a:lnTo>
                    <a:pt x="10800" y="10800"/>
                  </a:lnTo>
                  <a:close/>
                </a:path>
                <a:path fill="none" w="21600" h="21600">
                  <a:moveTo>
                    <a:pt x="21140" y="13919"/>
                  </a:moveTo>
                  <a:arcTo wR="10800" hR="10800" stAng="1007062" swAng="18699984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692360" y="5597280"/>
              <a:ext cx="321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66" name=""/>
          <p:cNvGraphicFramePr/>
          <p:nvPr/>
        </p:nvGraphicFramePr>
        <p:xfrm>
          <a:off x="6237360" y="4194000"/>
          <a:ext cx="223920" cy="22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37360" y="4194000"/>
                    <a:ext cx="223920" cy="2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8" name=""/>
          <p:cNvGrpSpPr/>
          <p:nvPr/>
        </p:nvGrpSpPr>
        <p:grpSpPr>
          <a:xfrm>
            <a:off x="5021280" y="3924360"/>
            <a:ext cx="3735360" cy="520200"/>
            <a:chOff x="5021280" y="3924360"/>
            <a:chExt cx="3735360" cy="520200"/>
          </a:xfrm>
        </p:grpSpPr>
        <p:sp>
          <p:nvSpPr>
            <p:cNvPr id="169" name=""/>
            <p:cNvSpPr/>
            <p:nvPr/>
          </p:nvSpPr>
          <p:spPr>
            <a:xfrm>
              <a:off x="5021280" y="3924360"/>
              <a:ext cx="3735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zytamy: kąt</a:t>
              </a:r>
              <a:r>
                <a:rPr b="1" lang="en-US" sz="1400" spc="-1" strike="noStrike">
                  <a:solidFill>
                    <a:srgbClr val="ff3300"/>
                  </a:solidFill>
                  <a:latin typeface="Arial"/>
                </a:rPr>
                <a:t> BAC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lub </a:t>
              </a:r>
              <a:r>
                <a:rPr b="1" lang="en-US" sz="1400" spc="-1" strike="noStrike">
                  <a:solidFill>
                    <a:srgbClr val="ff3300"/>
                  </a:solidFill>
                  <a:latin typeface="Arial"/>
                </a:rPr>
                <a:t>CAB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zapisujemy    </a:t>
              </a:r>
              <a:r>
                <a:rPr b="1" lang="en-US" sz="1400" spc="-1" strike="noStrike">
                  <a:solidFill>
                    <a:srgbClr val="ff3300"/>
                  </a:solidFill>
                  <a:latin typeface="Arial"/>
                </a:rPr>
                <a:t> BAC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lub    </a:t>
              </a:r>
              <a:r>
                <a:rPr b="1" lang="en-US" sz="1400" spc="-1" strike="noStrike">
                  <a:solidFill>
                    <a:srgbClr val="ff3300"/>
                  </a:solidFill>
                  <a:latin typeface="Arial"/>
                </a:rPr>
                <a:t>CA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70" name=""/>
            <p:cNvGraphicFramePr/>
            <p:nvPr/>
          </p:nvGraphicFramePr>
          <p:xfrm>
            <a:off x="7182000" y="4194000"/>
            <a:ext cx="223560" cy="2239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182000" y="4194000"/>
                      <a:ext cx="223560" cy="223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72" name=""/>
          <p:cNvGraphicFramePr/>
          <p:nvPr/>
        </p:nvGraphicFramePr>
        <p:xfrm>
          <a:off x="1557360" y="6129360"/>
          <a:ext cx="223920" cy="223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57360" y="6129360"/>
                    <a:ext cx="223920" cy="2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"/>
          <p:cNvSpPr/>
          <p:nvPr/>
        </p:nvSpPr>
        <p:spPr>
          <a:xfrm>
            <a:off x="1692360" y="6039000"/>
            <a:ext cx="24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zytamy: kąt </a:t>
            </a: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be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5337000" y="6129360"/>
          <a:ext cx="223920" cy="223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337000" y="6129360"/>
                    <a:ext cx="223920" cy="2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7" name=""/>
          <p:cNvGrpSpPr/>
          <p:nvPr/>
        </p:nvGrpSpPr>
        <p:grpSpPr>
          <a:xfrm>
            <a:off x="1557360" y="3924360"/>
            <a:ext cx="6345360" cy="2421720"/>
            <a:chOff x="1557360" y="3924360"/>
            <a:chExt cx="6345360" cy="2421720"/>
          </a:xfrm>
        </p:grpSpPr>
        <p:sp>
          <p:nvSpPr>
            <p:cNvPr id="178" name=""/>
            <p:cNvSpPr/>
            <p:nvPr/>
          </p:nvSpPr>
          <p:spPr>
            <a:xfrm>
              <a:off x="1557360" y="3924360"/>
              <a:ext cx="3463920" cy="105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zytamy: kąt</a:t>
              </a:r>
              <a:r>
                <a:rPr b="1" lang="en-US" sz="1400" spc="-1" strike="noStrike">
                  <a:solidFill>
                    <a:srgbClr val="ff3300"/>
                  </a:solidFill>
                  <a:latin typeface="Arial"/>
                </a:rPr>
                <a:t> BAC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lub </a:t>
              </a:r>
              <a:r>
                <a:rPr b="1" lang="en-US" sz="1400" spc="-1" strike="noStrike">
                  <a:solidFill>
                    <a:srgbClr val="ff3300"/>
                  </a:solidFill>
                  <a:latin typeface="Arial"/>
                </a:rPr>
                <a:t>CAB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zapisujemy     </a:t>
              </a:r>
              <a:r>
                <a:rPr b="1" lang="en-US" sz="1400" spc="-1" strike="noStrike">
                  <a:solidFill>
                    <a:srgbClr val="ff3300"/>
                  </a:solidFill>
                  <a:latin typeface="Arial"/>
                </a:rPr>
                <a:t>BAC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lub    </a:t>
              </a:r>
              <a:r>
                <a:rPr b="1" lang="en-US" sz="1400" spc="-1" strike="noStrike">
                  <a:solidFill>
                    <a:srgbClr val="ff3300"/>
                  </a:solidFill>
                  <a:latin typeface="Arial"/>
                </a:rPr>
                <a:t>CAB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. Słowo „kąt” zastępujemy symbolem „    ”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79" name=""/>
            <p:cNvGraphicFramePr/>
            <p:nvPr/>
          </p:nvGraphicFramePr>
          <p:xfrm>
            <a:off x="3716280" y="4194000"/>
            <a:ext cx="223920" cy="2239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80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3716280" y="4194000"/>
                      <a:ext cx="223920" cy="223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1" name=""/>
            <p:cNvGraphicFramePr/>
            <p:nvPr/>
          </p:nvGraphicFramePr>
          <p:xfrm>
            <a:off x="4257720" y="4419720"/>
            <a:ext cx="223920" cy="2235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82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4257720" y="4419720"/>
                      <a:ext cx="223920" cy="223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3" name=""/>
            <p:cNvGraphicFramePr/>
            <p:nvPr/>
          </p:nvGraphicFramePr>
          <p:xfrm>
            <a:off x="2771640" y="4194000"/>
            <a:ext cx="223920" cy="22392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84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2771640" y="4194000"/>
                      <a:ext cx="223920" cy="223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5" name=""/>
            <p:cNvSpPr/>
            <p:nvPr/>
          </p:nvSpPr>
          <p:spPr>
            <a:xfrm>
              <a:off x="5472000" y="6039000"/>
              <a:ext cx="243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zytamy: kąt </a:t>
              </a:r>
              <a:r>
                <a:rPr b="1" lang="en-US" sz="1400" spc="-1" strike="noStrike">
                  <a:solidFill>
                    <a:srgbClr val="ff3300"/>
                  </a:solidFill>
                  <a:latin typeface="Arial"/>
                </a:rPr>
                <a:t>alf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RODZAJE KĄTÓ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46280" y="86364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106640" y="1133640"/>
            <a:ext cx="70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Kąt prost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– możemy narysować za pomocą ekier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2411280" y="1628640"/>
            <a:ext cx="1440000" cy="1349640"/>
            <a:chOff x="2411280" y="1628640"/>
            <a:chExt cx="1440000" cy="1349640"/>
          </a:xfrm>
        </p:grpSpPr>
        <p:sp>
          <p:nvSpPr>
            <p:cNvPr id="190" name=""/>
            <p:cNvSpPr/>
            <p:nvPr/>
          </p:nvSpPr>
          <p:spPr>
            <a:xfrm flipH="1" flipV="1" rot="10800000">
              <a:off x="2640960" y="2142360"/>
              <a:ext cx="691920" cy="641160"/>
            </a:xfrm>
            <a:prstGeom prst="rtTriangl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 flipV="1" rot="10800000">
              <a:off x="2411280" y="1628280"/>
              <a:ext cx="1440000" cy="1349640"/>
            </a:xfrm>
            <a:prstGeom prst="rtTriangl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2050920" y="2979720"/>
            <a:ext cx="3241800" cy="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11280" y="1539720"/>
            <a:ext cx="0" cy="17100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141640" y="2708280"/>
            <a:ext cx="539280" cy="542520"/>
            <a:chOff x="2141640" y="2708280"/>
            <a:chExt cx="539280" cy="542520"/>
          </a:xfrm>
        </p:grpSpPr>
        <p:sp>
          <p:nvSpPr>
            <p:cNvPr id="195" name=""/>
            <p:cNvSpPr/>
            <p:nvPr/>
          </p:nvSpPr>
          <p:spPr>
            <a:xfrm>
              <a:off x="2141640" y="2708280"/>
              <a:ext cx="539280" cy="542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502000" y="2843280"/>
              <a:ext cx="36360" cy="36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1467000" y="3244680"/>
            <a:ext cx="5400360" cy="417240"/>
            <a:chOff x="1467000" y="3244680"/>
            <a:chExt cx="5400360" cy="417240"/>
          </a:xfrm>
        </p:grpSpPr>
        <p:sp>
          <p:nvSpPr>
            <p:cNvPr id="198" name=""/>
            <p:cNvSpPr/>
            <p:nvPr/>
          </p:nvSpPr>
          <p:spPr>
            <a:xfrm>
              <a:off x="1467000" y="3244680"/>
              <a:ext cx="540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Kąt prosty na rysunku przyjęto oznacza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9" name=""/>
            <p:cNvGrpSpPr/>
            <p:nvPr/>
          </p:nvGrpSpPr>
          <p:grpSpPr>
            <a:xfrm>
              <a:off x="5595120" y="3244680"/>
              <a:ext cx="416160" cy="417240"/>
              <a:chOff x="5595120" y="3244680"/>
              <a:chExt cx="416160" cy="417240"/>
            </a:xfrm>
          </p:grpSpPr>
          <p:grpSp>
            <p:nvGrpSpPr>
              <p:cNvPr id="200" name=""/>
              <p:cNvGrpSpPr/>
              <p:nvPr/>
            </p:nvGrpSpPr>
            <p:grpSpPr>
              <a:xfrm>
                <a:off x="5595120" y="3367080"/>
                <a:ext cx="293040" cy="294840"/>
                <a:chOff x="5595120" y="3367080"/>
                <a:chExt cx="293040" cy="29484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5595120" y="3367080"/>
                  <a:ext cx="293040" cy="294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5790960" y="3440520"/>
                  <a:ext cx="19800" cy="194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120" bIns="-33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3" name=""/>
              <p:cNvSpPr/>
              <p:nvPr/>
            </p:nvSpPr>
            <p:spPr>
              <a:xfrm>
                <a:off x="5741640" y="3244680"/>
                <a:ext cx="0" cy="269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741640" y="3513960"/>
                <a:ext cx="269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"/>
          <p:cNvSpPr/>
          <p:nvPr/>
        </p:nvSpPr>
        <p:spPr>
          <a:xfrm>
            <a:off x="1467000" y="3833640"/>
            <a:ext cx="63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ąty proste możemy narysować również za pomocą dwóch </a:t>
            </a:r>
            <a:r>
              <a:rPr b="1" lang="en-US" sz="1800" spc="-1" strike="noStrike">
                <a:solidFill>
                  <a:srgbClr val="6600ff"/>
                </a:solidFill>
                <a:latin typeface="Arial"/>
              </a:rPr>
              <a:t>prostych prostopadły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411280" y="4778280"/>
            <a:ext cx="0" cy="1576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467000" y="5589720"/>
            <a:ext cx="1800000" cy="0"/>
          </a:xfrm>
          <a:prstGeom prst="line">
            <a:avLst/>
          </a:prstGeom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141640" y="4734000"/>
            <a:ext cx="45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367000" y="6039000"/>
            <a:ext cx="4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467000" y="5319720"/>
            <a:ext cx="45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771640" y="5319720"/>
            <a:ext cx="4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367000" y="5589720"/>
            <a:ext cx="4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2141640" y="5319720"/>
            <a:ext cx="539280" cy="542520"/>
            <a:chOff x="2141640" y="5319720"/>
            <a:chExt cx="539280" cy="542520"/>
          </a:xfrm>
        </p:grpSpPr>
        <p:sp>
          <p:nvSpPr>
            <p:cNvPr id="214" name=""/>
            <p:cNvSpPr/>
            <p:nvPr/>
          </p:nvSpPr>
          <p:spPr>
            <a:xfrm>
              <a:off x="2141640" y="5319720"/>
              <a:ext cx="539280" cy="542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502000" y="5454720"/>
              <a:ext cx="36360" cy="36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2134080" y="5311440"/>
            <a:ext cx="569160" cy="573120"/>
            <a:chOff x="2134080" y="5311440"/>
            <a:chExt cx="569160" cy="573120"/>
          </a:xfrm>
        </p:grpSpPr>
        <p:sp>
          <p:nvSpPr>
            <p:cNvPr id="217" name=""/>
            <p:cNvSpPr/>
            <p:nvPr/>
          </p:nvSpPr>
          <p:spPr>
            <a:xfrm rot="11001600">
              <a:off x="2149200" y="5326560"/>
              <a:ext cx="538560" cy="542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rot="11001600">
              <a:off x="2285640" y="5691240"/>
              <a:ext cx="36000" cy="36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3492360" y="4824360"/>
            <a:ext cx="56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wie proste prostopadłe utworzyły </a:t>
            </a: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4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kąty prost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5562720" y="5273640"/>
            <a:ext cx="855720" cy="1067400"/>
            <a:chOff x="5562720" y="5273640"/>
            <a:chExt cx="855720" cy="1067400"/>
          </a:xfrm>
        </p:grpSpPr>
        <p:graphicFrame>
          <p:nvGraphicFramePr>
            <p:cNvPr id="221" name=""/>
            <p:cNvGraphicFramePr/>
            <p:nvPr/>
          </p:nvGraphicFramePr>
          <p:xfrm>
            <a:off x="5562720" y="5362560"/>
            <a:ext cx="223920" cy="223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2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562720" y="5362560"/>
                      <a:ext cx="223920" cy="223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23" name=""/>
            <p:cNvGraphicFramePr/>
            <p:nvPr/>
          </p:nvGraphicFramePr>
          <p:xfrm>
            <a:off x="5562720" y="5587920"/>
            <a:ext cx="223920" cy="2239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2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562720" y="5587920"/>
                      <a:ext cx="223920" cy="223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25" name=""/>
            <p:cNvGraphicFramePr/>
            <p:nvPr/>
          </p:nvGraphicFramePr>
          <p:xfrm>
            <a:off x="5562720" y="5813280"/>
            <a:ext cx="223920" cy="2239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26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562720" y="5813280"/>
                      <a:ext cx="223920" cy="223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27" name=""/>
            <p:cNvGraphicFramePr/>
            <p:nvPr/>
          </p:nvGraphicFramePr>
          <p:xfrm>
            <a:off x="5562720" y="6038640"/>
            <a:ext cx="223920" cy="2239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28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562720" y="6038640"/>
                      <a:ext cx="223920" cy="223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9" name=""/>
            <p:cNvSpPr/>
            <p:nvPr/>
          </p:nvSpPr>
          <p:spPr>
            <a:xfrm>
              <a:off x="5743800" y="5273640"/>
              <a:ext cx="67464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SB BSC CSD DS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9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9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9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9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"/>
          <p:cNvGrpSpPr/>
          <p:nvPr/>
        </p:nvGrpSpPr>
        <p:grpSpPr>
          <a:xfrm>
            <a:off x="2798280" y="2991240"/>
            <a:ext cx="2678400" cy="3036600"/>
            <a:chOff x="2798280" y="2991240"/>
            <a:chExt cx="2678400" cy="3036600"/>
          </a:xfrm>
        </p:grpSpPr>
        <p:sp>
          <p:nvSpPr>
            <p:cNvPr id="231" name=""/>
            <p:cNvSpPr/>
            <p:nvPr/>
          </p:nvSpPr>
          <p:spPr>
            <a:xfrm flipH="1" rot="9328800">
              <a:off x="3239640" y="3249720"/>
              <a:ext cx="1794960" cy="2518920"/>
            </a:xfrm>
            <a:prstGeom prst="triangle">
              <a:avLst>
                <a:gd name="adj" fmla="val 100000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 rot="9328800">
              <a:off x="3482640" y="3452040"/>
              <a:ext cx="1004760" cy="1420200"/>
            </a:xfrm>
            <a:prstGeom prst="triangle">
              <a:avLst>
                <a:gd name="adj" fmla="val 10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1532880" y="1923840"/>
            <a:ext cx="2926800" cy="3093480"/>
            <a:chOff x="1532880" y="1923840"/>
            <a:chExt cx="2926800" cy="3093480"/>
          </a:xfrm>
        </p:grpSpPr>
        <p:sp>
          <p:nvSpPr>
            <p:cNvPr id="234" name=""/>
            <p:cNvSpPr/>
            <p:nvPr/>
          </p:nvSpPr>
          <p:spPr>
            <a:xfrm flipH="1" rot="12937800">
              <a:off x="2098440" y="2210760"/>
              <a:ext cx="1795320" cy="2519280"/>
            </a:xfrm>
            <a:prstGeom prst="triangle">
              <a:avLst>
                <a:gd name="adj" fmla="val 100000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 rot="12937800">
              <a:off x="2719080" y="2457000"/>
              <a:ext cx="1004760" cy="1419840"/>
            </a:xfrm>
            <a:prstGeom prst="triangle">
              <a:avLst>
                <a:gd name="adj" fmla="val 10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4457880" y="934200"/>
            <a:ext cx="2928600" cy="3093120"/>
            <a:chOff x="4457880" y="934200"/>
            <a:chExt cx="2928600" cy="3093120"/>
          </a:xfrm>
        </p:grpSpPr>
        <p:sp>
          <p:nvSpPr>
            <p:cNvPr id="237" name=""/>
            <p:cNvSpPr/>
            <p:nvPr/>
          </p:nvSpPr>
          <p:spPr>
            <a:xfrm flipH="1" rot="2144400">
              <a:off x="5024160" y="1220760"/>
              <a:ext cx="1794960" cy="2519280"/>
            </a:xfrm>
            <a:prstGeom prst="triangle">
              <a:avLst>
                <a:gd name="adj" fmla="val 100000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 rot="2144400">
              <a:off x="5193360" y="2073960"/>
              <a:ext cx="1004760" cy="1420200"/>
            </a:xfrm>
            <a:prstGeom prst="triangle">
              <a:avLst>
                <a:gd name="adj" fmla="val 10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"/>
          <p:cNvSpPr/>
          <p:nvPr/>
        </p:nvSpPr>
        <p:spPr>
          <a:xfrm>
            <a:off x="1015920" y="233280"/>
            <a:ext cx="42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2. Kąty ostre i rozwa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01640" y="5049720"/>
            <a:ext cx="414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ą mniejsze od kąta prostego. Kąty mniejsze od kąta prostego nazywamy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kątami ostry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842000" y="5049720"/>
            <a:ext cx="414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ą większe od kąta prostego. Kąty większe od kąta prostego nazywamy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kątami rozwarty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1467000" y="4689360"/>
            <a:ext cx="853560" cy="368280"/>
            <a:chOff x="1467000" y="4689360"/>
            <a:chExt cx="853560" cy="368280"/>
          </a:xfrm>
        </p:grpSpPr>
        <p:graphicFrame>
          <p:nvGraphicFramePr>
            <p:cNvPr id="243" name=""/>
            <p:cNvGraphicFramePr/>
            <p:nvPr/>
          </p:nvGraphicFramePr>
          <p:xfrm>
            <a:off x="1467000" y="4778280"/>
            <a:ext cx="223560" cy="223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4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467000" y="4778280"/>
                      <a:ext cx="223560" cy="223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45" name=""/>
            <p:cNvSpPr/>
            <p:nvPr/>
          </p:nvSpPr>
          <p:spPr>
            <a:xfrm>
              <a:off x="1601640" y="4689360"/>
              <a:ext cx="71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KS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2195640" y="4689360"/>
            <a:ext cx="853920" cy="368280"/>
            <a:chOff x="2195640" y="4689360"/>
            <a:chExt cx="853920" cy="368280"/>
          </a:xfrm>
        </p:grpSpPr>
        <p:graphicFrame>
          <p:nvGraphicFramePr>
            <p:cNvPr id="247" name=""/>
            <p:cNvGraphicFramePr/>
            <p:nvPr/>
          </p:nvGraphicFramePr>
          <p:xfrm>
            <a:off x="2195640" y="4780080"/>
            <a:ext cx="223560" cy="2239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4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195640" y="4780080"/>
                      <a:ext cx="223560" cy="223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49" name=""/>
            <p:cNvSpPr/>
            <p:nvPr/>
          </p:nvSpPr>
          <p:spPr>
            <a:xfrm>
              <a:off x="2330640" y="4689360"/>
              <a:ext cx="71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MS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5364000" y="4689360"/>
            <a:ext cx="855360" cy="368280"/>
            <a:chOff x="5364000" y="4689360"/>
            <a:chExt cx="855360" cy="368280"/>
          </a:xfrm>
        </p:grpSpPr>
        <p:graphicFrame>
          <p:nvGraphicFramePr>
            <p:cNvPr id="251" name=""/>
            <p:cNvGraphicFramePr/>
            <p:nvPr/>
          </p:nvGraphicFramePr>
          <p:xfrm>
            <a:off x="5364000" y="4780080"/>
            <a:ext cx="223560" cy="2235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52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364000" y="4780080"/>
                      <a:ext cx="223560" cy="223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53" name=""/>
            <p:cNvSpPr/>
            <p:nvPr/>
          </p:nvSpPr>
          <p:spPr>
            <a:xfrm>
              <a:off x="5498640" y="468936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LS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6192720" y="4689360"/>
            <a:ext cx="990720" cy="368280"/>
            <a:chOff x="6192720" y="4689360"/>
            <a:chExt cx="990720" cy="368280"/>
          </a:xfrm>
        </p:grpSpPr>
        <p:graphicFrame>
          <p:nvGraphicFramePr>
            <p:cNvPr id="255" name=""/>
            <p:cNvGraphicFramePr/>
            <p:nvPr/>
          </p:nvGraphicFramePr>
          <p:xfrm>
            <a:off x="6192720" y="4779720"/>
            <a:ext cx="223920" cy="2239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56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192720" y="4779720"/>
                      <a:ext cx="223920" cy="223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57" name=""/>
            <p:cNvSpPr/>
            <p:nvPr/>
          </p:nvSpPr>
          <p:spPr>
            <a:xfrm>
              <a:off x="6327720" y="4689360"/>
              <a:ext cx="855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KS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525760" y="1688760"/>
            <a:ext cx="4724280" cy="2819880"/>
            <a:chOff x="2525760" y="1688760"/>
            <a:chExt cx="4724280" cy="2819880"/>
          </a:xfrm>
        </p:grpSpPr>
        <p:sp>
          <p:nvSpPr>
            <p:cNvPr id="259" name=""/>
            <p:cNvSpPr/>
            <p:nvPr/>
          </p:nvSpPr>
          <p:spPr>
            <a:xfrm>
              <a:off x="2668680" y="1689120"/>
              <a:ext cx="3927240" cy="281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>
              <a:off x="2525760" y="1688760"/>
              <a:ext cx="4724280" cy="216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070600" y="3530520"/>
              <a:ext cx="653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222720" y="3473640"/>
              <a:ext cx="654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222720" y="2257560"/>
              <a:ext cx="654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257720" y="2978280"/>
              <a:ext cx="654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832360" y="1898640"/>
              <a:ext cx="654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3411720" y="-69120"/>
            <a:ext cx="2675160" cy="3035520"/>
            <a:chOff x="3411720" y="-69120"/>
            <a:chExt cx="2675160" cy="3035520"/>
          </a:xfrm>
        </p:grpSpPr>
        <p:sp>
          <p:nvSpPr>
            <p:cNvPr id="267" name=""/>
            <p:cNvSpPr/>
            <p:nvPr/>
          </p:nvSpPr>
          <p:spPr>
            <a:xfrm flipH="1" rot="20135400">
              <a:off x="3851640" y="189000"/>
              <a:ext cx="1794600" cy="2518920"/>
            </a:xfrm>
            <a:prstGeom prst="triangle">
              <a:avLst>
                <a:gd name="adj" fmla="val 100000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 rot="20135400">
              <a:off x="4396680" y="1085760"/>
              <a:ext cx="1004400" cy="1419840"/>
            </a:xfrm>
            <a:prstGeom prst="triangle">
              <a:avLst>
                <a:gd name="adj" fmla="val 10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9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9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9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9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9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9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9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9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9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1T19:53:09Z</dcterms:created>
  <dc:creator>Darek</dc:creator>
  <dc:description/>
  <dc:language>en-US</dc:language>
  <cp:lastModifiedBy>Darek</cp:lastModifiedBy>
  <dcterms:modified xsi:type="dcterms:W3CDTF">2013-08-17T20:47:07Z</dcterms:modified>
  <cp:revision>21</cp:revision>
  <dc:subject/>
  <dc:title>Slajd 1</dc:title>
</cp:coreProperties>
</file>